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7A7-4B38-43F2-BEDB-4FA34862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76D-C4B4-4F9A-8249-4D1006BF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C82EF-569C-4911-96FB-BEDF06B2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D5E10-C117-45F6-8884-A4EA7A50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464B8-9086-4441-A72A-D7E18B70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A750E-B05A-46C2-B730-E4F166E5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D686C-D5EF-4870-BCA0-A6C9E39B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2EC10-196C-4F78-B577-C26FF2E0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A2037-5D4C-42F0-9ED5-0E90BD47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166AB-F8CE-419B-A795-2FC9767C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46082-CCDB-4509-B0AF-9027BB67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E8C69-E292-4B05-8778-A1E2EAFA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553-859E-43F5-BFFE-73E6CD00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FECC8-9D9C-4FBB-99CF-1FFDD9C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19EB3-B03F-43AA-97FE-CD29CB65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1723C-979C-4697-8EA5-27B943AC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A3808-3132-4671-B2F8-D9871F58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2F7BB-7B6C-4EF5-8D37-DB9DEA64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33C88-9C8D-44C2-A352-95A5A7C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DA2BC-E62D-45AD-BC8A-0FD3C19F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5E80B-7119-4C82-838E-0027FCE9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981A4-BD80-4854-B32A-3FFB7584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9E1FE-2031-4F5D-8696-C6C60DB2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B9A-3709-4F28-8975-A90F7539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1E47D-27EF-46D9-B23D-3C09EFB4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5EAD5-0517-49FF-A50E-AC6EED8E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783A3-F66B-4A6E-B613-A48B5DD2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9BFE6-B565-4B4F-924D-4189F1D7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5C43F-EB63-4012-AB4F-61DA115D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97B5F-B5BF-4CFB-9F77-271F6EE0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3F8A1-1ABA-4FB9-A9D6-E63B1626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C9052-80EA-4E74-AB1B-83BA4F92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C642C-27C5-4F72-AC15-08D90993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424EA-079D-466D-80F8-4AEBC7F7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EE8D-8CB2-47F9-91A1-F022A936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DBE02-1A32-4F14-8331-5F27DB9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4F290-1349-4E01-86D4-B4F5B68F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0A378-3A36-4B1C-85B1-B2AA6771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E2CDD-14C3-45EA-8055-3A9566FA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6981B-55C0-469D-BF52-4305FD85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A7F4A-BEDC-4637-A64A-269C9C2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4EE87-1061-4913-8502-C5930DE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F1F59-71BF-48AE-A780-39DCD15B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F3912-AE61-4AE3-91A8-E578E53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6F3E2-98F4-41CE-B7E5-F28E4BE1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10DF-F11E-461B-9849-1F432C96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71C70-A40D-4724-84ED-6D347AAF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CBB5B-C1C2-41A7-A5C4-D470EA5B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5697B-ACDC-401D-BB1F-BD60C22B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8CFE6-254D-46F3-9E5B-EE6544FE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D7E3D-C204-44C8-A8F1-B2930206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9728E-69C5-461B-9A26-24C05DD0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BD7A4-F9D2-4E4D-906D-67F180D4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06AEE-BE80-4480-8CA3-968CC6D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A1C8C-8EE8-48B4-B0BE-A965311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78290-166C-464E-9BFA-75D431DA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0302-412C-413D-AC93-51BB4B51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65A80-1744-47E8-8C77-7592C1C0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B6DCC-5731-47DA-BC6A-F671C38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1C373-EEE4-4390-8CAE-7E0CA78F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EB14E-5C2D-41D7-A9E8-BA4E3A3A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63541-4B81-4BCC-8B71-34C574E3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2F05C-D76F-4262-9F5E-9D394B52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CC8EB-CEA4-48B6-9385-E10725CE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F07E1-9941-453D-83FE-B80C4FB0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307AE-5B91-460B-9855-D89E457D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61ED3-C01F-4C3C-9273-F573E13F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4545-EF28-43B2-BD07-58550685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EFA3F-F3DB-48E4-9ABD-2CA38935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CE8FA-484F-447D-93D9-5C7F06A3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4F04E-CA41-43D1-854F-4D339184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FC072-8025-4123-99E7-1431068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5EBA5-5673-4ED2-8144-20414109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B6F23-C6E4-49A0-BCFD-3D68002E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4B8F7-B705-4724-9F82-F4AAE02D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19ACB-5630-42CC-AF56-05356397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D2587-0091-47CA-858D-3F97F7A1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B9C5-1E36-4A9E-9E9D-65855693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973F-2804-4799-BA3D-DA6E6F23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B707-8A3D-45FD-A9DC-0A199361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1B0-CCB1-4298-8100-6D5A1DC5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CA0-DC44-4719-A5FD-85B19061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031A-4F41-414E-A675-DBED8483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D92D-3C32-4CB9-9257-CA7F99A0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06A9-56CA-4976-AD3F-6233903F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CE35-92E0-4BA1-9D9F-F6247D59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C995-A7FB-4206-95BF-9D733637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722A7-45A5-4B1F-BBBC-A49B101B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3976-2FBA-48AD-9A58-BEE8C4C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B441-4155-43E1-AF99-3398355B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2532-6538-49A4-9A79-612AFBA5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5F7-8FCE-4872-9AE4-6FF6C845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5FFE-1252-429C-B7DE-EE33AFE0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B1D0-2D11-4E3D-987C-ADCB73D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690A-DA47-48A9-B494-CFEF0145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57CE-7768-48E8-8C83-8C5A7576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56A2-EB6D-4EE1-9354-ACC0A27C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CCC5-8EA2-4FBB-85F0-43BC4CA6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5F96-D3AC-4848-87F3-864D8BA4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121AB-D938-493C-9185-112B9DCA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43E3-6C77-4AC8-8D33-EDC3763D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9C6B-B5B5-4D6B-8BF3-3805DB02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0B4-7DEC-40FC-959D-D0CF70BD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6E32-7A00-44AA-817D-24C92B7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950F5-3F5F-45EF-A45B-1DCDA030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DEDD-931E-4FF6-9106-E18151F7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A7348-C16D-4366-82D0-D2DD3C7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B172-DF42-4922-887D-8C368330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D97E9-270B-4D53-B379-3AF98FE4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70F96-60CD-4384-9EBB-6D7677D3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1720-973C-4ECF-B5B0-7870CB39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CA183-D3D4-4498-BB9D-FE2B2B1F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BD52-2C17-4ACA-AAE6-3835A0B7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BFA-153C-413A-929C-D4B5CAD2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29C0C-2C67-4722-B852-B63989BB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CCB54-DCCF-420C-B3CE-992CAEDC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D191E-9C25-46D5-91C6-DD60AA15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5E698-287D-4205-A4DB-44F51743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1AF55-1334-4324-B22A-3B463B7C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2E67-192C-4C04-A05B-E639C601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A500-4EC0-4999-ADF4-8D6315A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F3EB8-3241-4914-BD37-43BEBB2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20F1D-6415-4E5E-BFDE-326D6A97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A6FD-06C0-4924-8F9A-A4A852A1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D0D-BB12-4CA7-8541-181428A7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1C887-F5F6-4B8B-87DA-35FB209B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4ADFF-8F8B-4A06-BEE3-CCD822B2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49BDA-7AD9-4988-AC59-C501BE3C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10C37-C482-415A-81D9-65A1DE98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3B2B4-A8DF-49C6-BB04-D277A154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2509B-EEA1-48B5-9570-D969FC5B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B1E40-7333-41CB-959E-AF6FB42A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2FEF-EE59-476F-B35F-F2DAF80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840F-2A08-406C-B78B-C881709E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BF902-0E90-4A24-B002-83926AF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320-E3C7-4B80-AC0F-F2DCEA1E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B829D-352E-4D09-A823-3F5C94DD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A7A30-BC15-4505-9F90-26F54888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90D7-5600-495D-9FD8-3FEAFB65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C05D6-D7A4-4E3C-8233-8D9C17A6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35D6D-7B94-4262-A599-1E97C286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15B21-3857-4636-837A-48440F68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E9B28-A65F-401D-ACCB-1B254689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DFF6E-8B96-45F2-811E-C63BAE38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AF585-8F18-45CD-80BF-006B24AC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3A22-9B2E-4187-9169-FEF1755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DE6-0490-43D0-AFAE-B63A5144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82F4F-C28C-44F9-82E1-02149BD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6C4C1-43AA-479E-864F-2A20671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6EBD2-F954-4561-83B1-16D8FCA4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ED84B-E4FE-474E-8F06-99939406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2A97A-C52E-4AE2-BB9D-1F610B73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EF329-6F9D-4F6B-9620-05E979ED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FC19B-3140-48AF-9B27-46BAEA7D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4F3F1-1A1A-4DF0-9A32-74CBE846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93096-C3AA-4D20-8FD2-096DB37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9BB9-DBCC-44CA-9FF8-D938B6B3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C93-65B6-46C1-8A39-7C3C8B5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5BBBD-7B54-4CD1-A62B-AE7282F1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64239-5C28-4A79-9FA1-6A48F7A4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05008-83A9-47C9-9DAB-37299C74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08700-8D20-4CF3-885B-2F3D334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1249-482B-4694-AE04-B9EF36A6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16ED0-E7F6-4D1C-94B3-6E72AE6B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44A2D-1EAC-46F4-90E5-F95AF9C4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D7257-E721-408E-AA42-6D73A54C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26DE6-A83B-4FE8-A90B-9D217103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BA22E-8E39-47D6-8608-25C4A9B1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A836-1EAF-457F-AD98-65F4C3E7A37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2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15AA-3482-43E1-896A-30961699D0F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661E-731B-4E81-AAEB-2AA31C3ABE9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D2E0-AA83-46B0-BBF1-40332F09D0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6890-4A18-4F50-91B9-2B891C5C4D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59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AB2B-008E-47EC-AC86-14A213EE66F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A1FB-3154-4E2E-B385-D64CBB1E1C9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00F7-8578-4A1E-A4B3-69EE7AF7AD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BDFD-184D-4065-A609-DEC1ABC755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499-46C2-45DF-AA84-FA0AD767AA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F814-FD9B-4A05-BA07-64B764C267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A4C2-DA6C-469B-8256-D7BAC203E22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2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DC27-E1B4-4EAB-BA31-3B2BE8F2819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7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FE1B-B62F-40AC-A4E2-8C671FE6361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kidslibrary.ru/" TargetMode="External"/><Relationship Id="rId2" Type="http://schemas.openxmlformats.org/officeDocument/2006/relationships/hyperlink" Target="http://www.kidslibrary.r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572314"/>
                </a:solidFill>
                <a:latin typeface="Corbel"/>
              </a:rPr>
              <a:t>Особенности составления </a:t>
            </a:r>
            <a:br>
              <a:rPr sz="4900"/>
            </a:br>
            <a:r>
              <a:rPr b="0" lang="ru-RU" sz="4900" spc="-1" strike="noStrike">
                <a:solidFill>
                  <a:srgbClr val="572314"/>
                </a:solidFill>
                <a:latin typeface="Corbel"/>
              </a:rPr>
              <a:t>и подачи информационных материалов </a:t>
            </a:r>
            <a:br>
              <a:rPr sz="4900"/>
            </a:br>
            <a:r>
              <a:rPr b="0" lang="ru-RU" sz="4900" spc="-1" strike="noStrike">
                <a:solidFill>
                  <a:srgbClr val="572314"/>
                </a:solidFill>
                <a:latin typeface="Corbel"/>
              </a:rPr>
              <a:t>на сайт библиотеки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187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етодические рекомендаци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оставитель: Яцеленко И.С. –гл. библиограф МУК «ГЦБ»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07640" y="274680"/>
            <a:ext cx="4464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Типы лид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Резюмирующий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лиде дается краткое изложение события или выделяется главное, что произошло, а сама статья посвящается раскрытию темы, представляет подробности. Резюмирующий лид рекомендуется для новостных материалов. Он хорош тем, что сразу вводит читателя в контекст происходящего. Такой лид энергичен и немногослове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тложенный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кой лид дает меньше информации, но втягивает в чтение. Информация последует далее, когда читатель уже увлече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Эпизодный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к явствует из названия, рассказывается некий эпизод, связанный с тем, что будет в статье. Такой лид хорош в описательных статья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Цитатный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асто информационные сообщения бывают посвящены тому, что известный политический деятель, руководитель государства или деятель культуры, сказал что-то важное или прокомментировал происходящее. Такие сообщения принято начинать с цита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Как строить Лид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(</a:t>
            </a: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резюмирующий)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этом случае на первое место выводится личнос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отрудники Центральной библиотеки им. Н. Островского приняли участие в конкурсе "Лучшее в библиотеках России"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т лид подходит для тех случаев, когда событие важнее, чем персон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остоялся первый библиотечный КВН среди муниципальных библиотек город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Библиотека получила безвозмездно партию книг - лауреатов Национальной детской литературной премии "Детская мечта"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Г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В Рождественскую ночь комсомольчане спешили в библиотеку. В ночь с 6 на 7 января в Центральной библиотеке им. Н. Островского состоялась рождественская акция «Ночь в библиотеке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Д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т тип лида фокусирует наше внимание на месте событ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В библиотеке-филиале №6 создан литературный музей Г. Н. Хлебнико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ЧЕМ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ид почему употребляется в тех случаях, когда подчеркиваются мотивы события или причины, по которым данное событие имело место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иноклубу «Глазами истины» исполняется ровно год. Именно поэтому 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на очередном заседани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клуба вас ждет встреча с московским кинорежиссером  Сергеем Великоредчаниным,  а также просмотр и обсуждение короткометражного фильма «Сапожки», снятого по мотивам рассказа В. М. Шукшин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А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нтересным для библиографов центральной библиотеки им. Н. Островского оказался опыт совместной работы с издательством «Румавис» над созданием справочного издания «Атлас г. Комсомольска-на-Амуре». Данный проект предусматривал размещение тематической информации, призванной привлечь внимание читателя интересными и малоизвестными фактами по истории город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десь было важным показать, как готовилось данное изда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Первая строка (”Top Line”)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rbel"/>
              </a:rPr>
              <a:t>    </a:t>
            </a:r>
            <a:r>
              <a:rPr b="1" i="1" lang="ru-RU" sz="2800" spc="-1" strike="noStrike">
                <a:solidFill>
                  <a:srgbClr val="cc0000"/>
                </a:solidFill>
                <a:latin typeface="Corbel"/>
              </a:rPr>
              <a:t>Преподаватель отредактировал неполиткорректный роман Марка Тве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вая строка вашего материала должна «продавать» данную новость слушател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на должна быть короткой и «ударной» («попадать в десятку»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ш слушатель должен быть способен понять то, о чем вы рассказали в новости. Он должен захотеть дослушать новость до конца, чтобы узнать больш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971280" y="476280"/>
            <a:ext cx="7715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овость должна быть выстроена с точки зрения логики. У нее должно быть начало, середина и конец. “Top Line” (первая строка) должна сразу захватить внимание аудитории, а вторая строка должна содержать дополнительные детали, поясняющие данную нов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торая строка: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дополнительные детал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000" spc="-1" strike="noStrike">
                <a:solidFill>
                  <a:srgbClr val="cc0000"/>
                </a:solidFill>
                <a:latin typeface="Corbel"/>
              </a:rPr>
              <a:t>Алан Гриббен, в высшей степени политкорректный издатель и преподаватель английской литературы из штата Алабама, предложил отредактировать роман Марка Твена «Приключения Гекльберри Финна». На такие крайние меры Алан Гриббен решил пойти из-за многократного (более 200 раз) упоминания в книге слова «негр»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042560" y="404280"/>
            <a:ext cx="7643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ередина новости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1800" spc="-1" strike="noStrike">
                <a:solidFill>
                  <a:srgbClr val="cc0000"/>
                </a:solidFill>
                <a:latin typeface="Corbel"/>
              </a:rPr>
              <a:t>По мнению Алана Гриббена, великий писатель создал неполиткорректный роман, который может негативно повлиять на подрастающее поколение. Преподаватель уверен, в детях необходимо воспитывать толерантное отношение к представителям других рас, а популярные и любимые учениками книги Марка Твена, напротив, показывают образец оскорбительного отношения к афроамериканцам. 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Corbel"/>
              </a:rPr>
              <a:t>Алан Гриббен предложил заменить слово «негр», которое встречается в романе более 200 раз, на менее расистки окрашенное слово «раб». Преподаватель счел этот вариант менее оскорбительным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Компоновка стать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39" name="Picture 6" descr="001"/>
          <p:cNvPicPr/>
          <p:nvPr/>
        </p:nvPicPr>
        <p:blipFill>
          <a:blip r:embed="rId1"/>
          <a:stretch/>
        </p:blipFill>
        <p:spPr>
          <a:xfrm>
            <a:off x="1042920" y="1628640"/>
            <a:ext cx="73389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1042560" y="692280"/>
            <a:ext cx="76438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Завершение новост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2400" spc="-1" strike="noStrike">
                <a:solidFill>
                  <a:srgbClr val="cc0000"/>
                </a:solidFill>
                <a:latin typeface="Corbel"/>
              </a:rPr>
              <a:t>Это не первый пример толерантного отношения к представителям иных рас и вероисповеданий. Британские власти приняли решение убрать из энциклопедических словарей «троллей», «епископов» и прочую языческо-христианскую лексику в связи с тем, что, по их мнению, эти слова смущают представителей других культу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27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НЕСКОЛЬКО ИДЕЙ ДЛЯ НАПИСАНИЯ НОВОСТЕЙ И ФРАЗ,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С КОТОРЫХ ОНИ МОГУТ НАЧИНАТЬСЯ.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042920" y="981000"/>
            <a:ext cx="7850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77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1000-й  читатель (500-й, 100-й, 10-й, 1-й и т.п.) ...» - кто им стал, возможно, с какого года, как отмечено это событие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Открыт новый клуб (филиал, служба, отдел) ...» - коротко об этом офисе, его задачи, особенности работы, расположение, что с открытием этого офиса ожидает клиентов, партнеров, какие появляются удобства или открываются новые возможности, перспектив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Юбилей компании (Х-летие вида деятельности, службы, отдела, офиса)...» - о ключевых успехах за этот период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Получен диплом (сертификат, патент, лицензия)...» - какой диплом, какой орган выдал, какие появляются новые возможности в деятельности фирмы или ее отличия от конкурентов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Состоялась презентация продукта (услуги)...» - где, когда состоялась презентация, что это за продукт (услуга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Библиотека приняла участие в выставке ...» - какая выставка, ее статус, что показывали, сколько было народу и сколько посетителей пришло на стенды компании, успехи и награды, полученные на выставке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Прошел семинар (приняли участие в работе семинара, конференции)...» - что за семинар, чему был посвящен, о чем был доклад представителей компании, какие отзывы получила компания или ее докладчик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Проводится акция...» - период проведения акции и что предлагается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Проведена благотворительная акция - где, когда, что было сделано и по отношению к кому (подарок детскому дому, бесплатные мероприятия, пожертвование на строительство памятника и т.п.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Состоялся розыгрыш призов (награждение победителей)...» - когда состоялся розыгрыш, кто в нем участвовал, кто и какие призы получили. Если победители – то за что. Если планируется и дальше проводить такие розыгрыши (соревнования) – написать, когда планируется следующий розыгрыш призов (соревнования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Состоялась встреча с ...(клиентами, акционерами, администрацией, коллегами, сотрудниками и т.п.) – где, когда состоялась встреча, какая это встреча по счету, кто основные участники, чему посвящена, что обсуждали и что решили, когда планируется следующая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7705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Статья после редактирования:</a:t>
            </a:r>
            <a:br>
              <a:rPr sz="1600"/>
            </a:br>
            <a:r>
              <a:rPr b="1" lang="ru-RU" sz="1600" spc="-1" strike="noStrike">
                <a:solidFill>
                  <a:srgbClr val="feb80a"/>
                </a:solidFill>
                <a:latin typeface="Corbel"/>
              </a:rPr>
              <a:t>Состоялась презентация нового поэтического сборника Татьяны Мирчук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042560" y="1557000"/>
            <a:ext cx="7921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1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Интересное мероприятие  было проведено сотрудниками филиала № 5 Центральной библиотеки им. Н. Островского совместно со школьной библиотекой.  13 декабря в школе № 36 состоялась традиционная встреча старшеклассников с поэтами и писателями нашего города. В импровизированной литературной гостиной ребята принимали Татьяну Александровну Мирчук – члена городской писательской организации, одну из самых ярких «звездочек» литературного небосклона города. Она представила свой новый поэтический сборник  «Простая музыка стиха»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Татьяна Мирчук – лирик, способный выразить самые тонкие чувства человека. У неё особая чувствительность к звуку, музыке. Недаром последний сборник поэтессы, называется «Простая музыка стиха». Звучали стихи в исполнении автора и зрителей. Многие успели уже приобрести для себя книгу Татьяны Александровны и теперь просто читали с листа то, что понравилось им больше всего, что оказалось созвучно их душе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Вместе с Татьяной Александровной пришли молодые, очень талантливые творческие люди, которые сами пишут стихи, музыку. Это Татьяна и Евгений Паньковы, руководители клуба авторской песни «Тоника», написавшие несколько песен на слова Т. Мирчук и, конечно же, исполнившие их.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Говорят, что современные дети не любят и не принимают поэзии. А может, просто не всегда удается создать атмосферу, когда хочется слушать еще и еще? А потом и самому читать стихи? Атмосфера доброты, искреннего внимания и восхищения царила в библиотеке. Затаив дыхание, слушали старшеклассники стихи и песни. Потом благодарили и, уходя, говорили «спасибо» всем, кто организовал этот праздник: и автору, и музыкантам, и своим учителям, и библиотекарям филиала № 5 и своему школьному библиотекарю Наталье Федоровне Уваровой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Примеры удачных новостей с сайта библиотеки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187280" y="1052280"/>
            <a:ext cx="7499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остоялся первый библиотечный КВН среди муниципальных библиотек город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6 ноября в Центральной библиотеке им. Н. Островского впервые состоялся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библиотечный КВН под названием «Пробный шар»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Кто сказал, что библиотекарь – это серый и скучный человек с большими очками на кончике носа? Библиотекари решили разрушить эти устоявшиеся стереотипы. И это им удалось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конкурсе приняли участие две команды: «Биб-Персоны» из Центральной библиотеки им. Н. Островского и команда «6С» муниципальных библиотек Центрального округ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омандам было предложено пошутить на самые интересные и актуальные темы из жизни библиотеки: «Капризный читатель», «Ох, уж этот компьютер», «Совещание у директора», исполнить библиотечную песню и представить лучший библиотечный слоган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Борьба разгорелась нешуточная. Ко все заданиям библиотекари подошли творчески. В их исполнении зрители увидели не только сценки библиотечной жизни, были показаны видеофильмы, снятые специально для КВН, использовались ролики и слайд-презентации. Столько юмора, музыки и смеха давно не слышали в стенах библиотеки. Болельщики активно поддерживали свои команды: шумели, свистели, скандировали речевки, в общем, – все было как в настоящем КВНе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о итогам голосования независимого жюри первое место было присуждено команде библиотекарей Центрального округа. Им и достался главный приз игры – коллективный выход команды в кафе, чтобы отпраздновать свою победу. Вторая команда получила в качестве поощрения огромный торт, который был съеден участниками команды с большим удовольствием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оложено начало новой традиции – проведению библиотечных КВНов, а то, что библиотекари - люди творческие, они уже доказал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1042920" y="476280"/>
            <a:ext cx="765504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В библиотеке состоялась презентация нового поэтического сборника Елены Косаревой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5 сентября в актовом зале библиотеки им. Н. Островского состоялась презентация нового поэтического сборника Елены Косаревой "С чистого листа". Это хороший подарок всем любителям поэзии. По словам поэтессы, сборник посвящён вопросам нравственности и будет особенно интересен молодёжи, так как в нём раскрываются проблемы долга, чести и патриотизма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Елена Косарева по образованию педагог. Натура деятельная и творческая, она обладает энергичным и деловым характером. Этот сборник является третьим по счёту и, как говорит сама Елена, в нём она уже чувствует себя состоявшимся поэтом. Книга, которая писалась в течение трёх лет, выпущена тиражом всего 100 экземпляров. На презентацию нового сборника собрались друзья, коллеги, творческая интеллигенция города и просто любители поэзии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Церемонию презентации вела сама автор. Живой эмоциональный рассказ о своем творчестве чередовался чтением стихов и песнями, которые звучали в исполнении музыкантов и певцов города. Это всем известные в городе Александр Привалов, Виктория Закатова, Ирина Заворина, Евгений Паньков и другие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тмосфера вечера была дружеской и теплой, зал подхватывал и подпевал многие песни. На мероприятии можно было приобрести новый сборник поэтесс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1258560" y="404280"/>
            <a:ext cx="7427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Презентация сайта Детской библиотеки города -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www.kidslibrary.ru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7 марта в детской библиотеке имени Горького состоялась презентация библиотечного сайта. Это уже второй Интернет-проект муниципальных библиотек города. Первый библиотечный сайт в нашем городе (наш сайт) был запущен несколько лет назад, он охватил взрослые библиотеки города. А в феврале этого года свою работу начал новый сайт – Детской библиотеки имени Горького -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www.kidslibrary.ru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презентации присутствовали представители администрации города, библиотечные работники, учителя городских школ, представители СМИ, а также писатели и поэты города. Кстати, некоторые из них дали согласие на публикацию их детских произведений на новом сайт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овый сайт по своему оформлению напоминает сказочную компьютерную игру, что, несомненно, будет способствовать привлечению детской аудитории. Помимо информации о библиотеке, её клубах, конкурсах и мероприятиях, здесь можно найти интересную информацию о детских дальневосточных писателях, их книги в полнотекстовом варианте, стихи о Дальнем Востоке, сценарии к знаменательным датам. Сайт предлагает следующие сервисы: поиск по электронному каталогу, виртуальная справка и др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1042920" y="721080"/>
            <a:ext cx="7921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иктория Бекхэм - популярная певица и жена футболиста Дэвида Бекхэма - заявила, что за всю свою жизнь не прочитала ни одной книги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она в этом не одинока - 20% британцев говорят, что книги не для них. «Я не прочитала ни одной книжки за всю свою жизнь, - призналась бывшая участница группы «Спайс герлз» испанскому журналисту. - У меня на это просто нет времени. Я предпочитаю слушать музыку и очень люблю просматривать журналы мод». Таких, как Виктория, не так уж мало. На каждых четырех британцев, следящих за книжными новинками, приходится один, который книг в руки не бе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гласно исследованию Государственного статистического управления, проведенному по заказу Национальной кампании содействия чтению в 2001 году, четверть взрослого населения не прочитала за последний год ни одной книги. А среди мужчин в возрасте от 16 до 24 лет таких почти полов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это несмотря на то, что в Великобритании за пять лет до 2004 года резко вырос объем книжных продаж - до 19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6923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Статья, написанная по схеме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преподнести информацию правильно?</a:t>
            </a: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55280" y="1125000"/>
            <a:ext cx="7931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райтесь заинтересовать посетителя сразу на первых предложениях, что заставит прочитать весь текст до кон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тверждайте важные моменты своей темы известными утверждениями. Используйте хотя бы такие выражения: "Это доказано многолетним опытом", "Практика показывает", "Давно известный факт" и д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ужно писать простым, понятным, легким языком. Не используйте сложных слов и выражений без крайней необходимости. В большинстве случаев для Интернета следует писать в разговорном стил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971280" y="333000"/>
            <a:ext cx="7715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пользуйте заголовки. Их должно быть несколько. Каждый заголовок метко и кратко отражает тему одной ча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правильного нахождения страницы при поиске следует с определенной частотой (3-5%) использовать ключевые слов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храняйте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тематическое единств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текста и его соответствие заявленной в заголовке теме. Пишите о том, что вы обещали в заголовк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читесь у профессионало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КАК ПИСАТЬ ДЛЯ НОВОСТЕ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ловек, пишущий новость, должен задать себе следующие вопрос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— Who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— What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гда — When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де — Where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ему — Why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— Ho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Формула написания «жестких» новосте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434960" y="2060280"/>
            <a:ext cx="74995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произошл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де это произошл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гда это произошл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стал участником этого событ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это происходил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ему это произошл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значает данное событи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Ли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лид» — первый абзац, в котором коротко (2-3 предложения, в каждом предложении 11-15 слов) изложена главная мысль сообщения. Задача лида - привлечь внимание читателя, заставить его читать статью. Как правило, для этого ему сообщают, что его ждет впереди, о чем стать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имер лида, отвечающего на шесть вопросо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 декабря 2010 года </a:t>
            </a:r>
            <a:r>
              <a:rPr b="0" lang="ru-RU" sz="2800" spc="-1" strike="noStrike">
                <a:solidFill>
                  <a:srgbClr val="cc0000"/>
                </a:solidFill>
                <a:latin typeface="Corbel"/>
              </a:rPr>
              <a:t>(КОГДА)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в библиотеке- филиале № 6 </a:t>
            </a:r>
            <a:r>
              <a:rPr b="0" lang="ru-RU" sz="2800" spc="-1" strike="noStrike">
                <a:solidFill>
                  <a:srgbClr val="cc0000"/>
                </a:solidFill>
                <a:latin typeface="Corbel"/>
              </a:rPr>
              <a:t>(ГДЕ)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остоялось открытие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«Хлебниковских чтений» </a:t>
            </a:r>
            <a:r>
              <a:rPr b="1" lang="ru-RU" sz="2800" spc="-1" strike="noStrike">
                <a:solidFill>
                  <a:srgbClr val="cc0000"/>
                </a:solidFill>
                <a:latin typeface="Corbel"/>
              </a:rPr>
              <a:t>(</a:t>
            </a:r>
            <a:r>
              <a:rPr b="0" lang="ru-RU" sz="2800" spc="-1" strike="noStrike">
                <a:solidFill>
                  <a:srgbClr val="cc0000"/>
                </a:solidFill>
                <a:latin typeface="Corbel"/>
              </a:rPr>
              <a:t>ЧТО)</a:t>
            </a:r>
            <a:r>
              <a:rPr b="1" lang="ru-RU" sz="2800" spc="-1" strike="noStrike">
                <a:solidFill>
                  <a:srgbClr val="cc0000"/>
                </a:solidFill>
                <a:latin typeface="Corbe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на котором присутствовали студенты Металлургического техникума. </a:t>
            </a:r>
            <a:r>
              <a:rPr b="0" lang="ru-RU" sz="2800" spc="-1" strike="noStrike">
                <a:solidFill>
                  <a:srgbClr val="cc0000"/>
                </a:solidFill>
                <a:latin typeface="Corbel"/>
              </a:rPr>
              <a:t>(УЧАСНИКИ СОБЫТИЯ)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 большим успехом </a:t>
            </a:r>
            <a:r>
              <a:rPr b="0" lang="ru-RU" sz="2800" spc="-1" strike="noStrike">
                <a:solidFill>
                  <a:srgbClr val="cc0000"/>
                </a:solidFill>
                <a:latin typeface="Corbel"/>
              </a:rPr>
              <a:t>(КАК)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на мероприятии прошла презентация альманаха «Хлебниковские чтения», посвященная 95-летнему юбилею писателя </a:t>
            </a:r>
            <a:r>
              <a:rPr b="0" lang="ru-RU" sz="2800" spc="-1" strike="noStrike">
                <a:solidFill>
                  <a:srgbClr val="cc0000"/>
                </a:solidFill>
                <a:latin typeface="Corbel"/>
              </a:rPr>
              <a:t>(ПОЧЕМУ ЭТО ПРОИЗОШЛО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0:03:21Z</dcterms:created>
  <dc:creator>Bibl</dc:creator>
  <dc:description/>
  <dc:language>en-US</dc:language>
  <cp:lastModifiedBy>Методический отдел</cp:lastModifiedBy>
  <dcterms:modified xsi:type="dcterms:W3CDTF">2014-03-16T05:19:17Z</dcterms:modified>
  <cp:revision>19</cp:revision>
  <dc:subject/>
  <dc:title>Компоновка статьи</dc:title>
</cp:coreProperties>
</file>